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0A31-D73D-42C8-B285-B3BE58D0F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EE47-7203-495B-AC80-B4B24EC1C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102C-832F-469B-B8C9-1AAB71608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C5A4-9DEB-42B9-9A0C-45DF481C2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CF03-D868-4FE3-A0C6-6C7B029CC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D2E5-0BDD-4F80-ABB9-25F65FC91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3697-60A3-4473-BD52-1FA1E3B66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0ECE-B8B7-4DFB-8CA9-5CB8AB403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C224-C696-4975-9F18-6707518CB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D381-2A87-49BC-813E-7E4C02CBF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09DA-4656-40EB-B67F-AEDB2EBB1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06F3-AD73-4A35-A9A0-AA4736D51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4F10B-9754-4D69-B06C-46D99BDD18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Grammaire 1-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Les Sujets et les verb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Subjects and Verb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bjects and Verbs in Englis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ric walks slow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The dog eats a lo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aura is 13 years ol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What is the subject of each sentenc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What is the verb of each sentenc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What part of speech are subjects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French is the same way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Xavier écrit un poème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L’oiseau chante une belle chanson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Lise lève sa mai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Sujet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Verbe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The structure is the same! Don’t be afraid that it’s in French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ouns Are Replaced By Wha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Kevin is a friend. ______ is 14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What goes in the blank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Why do we do thi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Kelly and Monica are going to the movies. ______ are excited to see the new movi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What goes in this blank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bject Pronouns in Englis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W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Yo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He/She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Th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It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s pronoms sujets en frança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Je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No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Tu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Vous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Il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I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lle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lles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Je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becomes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j’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before a vowel soun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J’ai quinze a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ppel! Reminder! Formal/Inform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rm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form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6840" y="2514240"/>
            <a:ext cx="4040280" cy="38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you are speaking to people who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re older than you that you don’t know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you will want to us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OU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OU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speaking to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ore than one pers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regardless of 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ind of like Y’all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44720" y="2514240"/>
            <a:ext cx="4041720" cy="38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you are speaking to a person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your own ag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young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d between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amily members, even those older than yo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1T16:43:48Z</dcterms:created>
  <dc:creator>Robbie</dc:creator>
  <dc:description/>
  <dc:language>en-US</dc:language>
  <cp:lastModifiedBy>Robert Stevens</cp:lastModifiedBy>
  <dcterms:modified xsi:type="dcterms:W3CDTF">2012-08-23T12:51:25Z</dcterms:modified>
  <cp:revision>2</cp:revision>
  <dc:subject/>
  <dc:title>Grammaire 1-1</dc:title>
</cp:coreProperties>
</file>